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camera.wav" ContentType="audio/x-wav"/>
  <Override PartName="/ppt/media/image5.jpeg" ContentType="image/jpeg"/>
  <Override PartName="/ppt/media/image6.wmf" ContentType="image/x-wmf"/>
  <Override PartName="/ppt/media/whoosh.wav" ContentType="audio/x-wav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1B6-3C56-4579-8BBF-F6C1349D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652-0A79-4CDF-83A3-4017769C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B96-C223-4796-85B8-B878EE15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55B-AE47-41E9-BD85-513A3776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772-3944-43F3-AF14-FD8FA30D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383-C855-4EDE-B335-8F3B43F9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61A-FF9E-4C38-94F6-1029049C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56A-A88F-41D6-AFEC-E0AD929A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761-E653-4875-9033-1CEE6E19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550-C2DC-4740-9E0E-F5CE1896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8CB-8E0C-4C86-9969-21397B50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246-75CD-45BA-A6C8-65A59B25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10FF-CB50-4EC0-873F-2CCFC130B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43000" y="1523880"/>
            <a:ext cx="6953400" cy="15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Comic Sans MS"/>
              </a:rPr>
              <a:t>Forming plural form of a noun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Picture 6" descr="PE03254_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257800" y="3686040"/>
            <a:ext cx="2473200" cy="223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295280" y="106668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plural of a noun is usually made by adding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Comic Sans MS"/>
              </a:rPr>
              <a:t>‘s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to the singul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66680" y="32004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.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666880" y="320040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Comic Sans MS"/>
              </a:rPr>
              <a:t>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267080" y="32767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d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514600" y="5105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2666880" y="4114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Comic Sans MS"/>
                <a:ea typeface="標楷體"/>
              </a:rPr>
              <a:t>d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4419720" y="4038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d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2438280" y="51055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Comic Sans MS"/>
              </a:rPr>
              <a:t>k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4457880" y="5029200"/>
            <a:ext cx="137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ka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248520" y="4572000"/>
            <a:ext cx="2514600" cy="1760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  <p:seq>
              <p:cTn id="6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90720" y="53352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uns ending in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o’, ‘ch’, ‘sh’, ‘ss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or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x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form their plural by adding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es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143000" y="2514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362320" y="25146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tom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495680" y="2514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toma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362320" y="3048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4956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chur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438280" y="3581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b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4956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bru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514600" y="4114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ki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572000" y="4114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ki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2514600" y="4572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572000" y="4572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bo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5" descr="NA00864_"/>
          <p:cNvPicPr/>
          <p:nvPr/>
        </p:nvPicPr>
        <p:blipFill>
          <a:blip r:embed="rId2"/>
          <a:stretch/>
        </p:blipFill>
        <p:spPr>
          <a:xfrm>
            <a:off x="6248520" y="4363920"/>
            <a:ext cx="2493720" cy="2152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371600" y="304920"/>
            <a:ext cx="6400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uns ending in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y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following a </a:t>
            </a:r>
            <a:r>
              <a:rPr b="0" lang="en-US" sz="4000" spc="-1" strike="noStrike">
                <a:solidFill>
                  <a:srgbClr val="3366ff"/>
                </a:solidFill>
                <a:latin typeface="Comic Sans MS"/>
              </a:rPr>
              <a:t>consonant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form their plural by dropping the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y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and adding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ies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95280" y="3733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90920" y="37339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ba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400800" y="3733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bab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5146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257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jackal"/>
          <p:cNvPicPr/>
          <p:nvPr/>
        </p:nvPicPr>
        <p:blipFill>
          <a:blip r:embed="rId2"/>
          <a:stretch/>
        </p:blipFill>
        <p:spPr>
          <a:xfrm>
            <a:off x="4038480" y="3200400"/>
            <a:ext cx="2167200" cy="150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91440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uns ending in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y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following a </a:t>
            </a:r>
            <a:r>
              <a:rPr b="0" lang="en-US" sz="4000" spc="-1" strike="noStrike">
                <a:solidFill>
                  <a:srgbClr val="3366ff"/>
                </a:solidFill>
                <a:latin typeface="Comic Sans MS"/>
              </a:rPr>
              <a:t>vowel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form their plural by adding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s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19320" y="31240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743200" y="3124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648320" y="3124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90920" y="4038480"/>
            <a:ext cx="144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286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don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419720" y="4038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don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" descr="NA01441_"/>
          <p:cNvPicPr/>
          <p:nvPr/>
        </p:nvPicPr>
        <p:blipFill>
          <a:blip r:embed="rId2"/>
          <a:stretch/>
        </p:blipFill>
        <p:spPr>
          <a:xfrm>
            <a:off x="6934320" y="4343400"/>
            <a:ext cx="1493640" cy="1685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838080" y="76212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uns ending in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f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or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fe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usually form their plural by dropping the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f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or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fe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and add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‘ves’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990720" y="3733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362320" y="3733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419720" y="3733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w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362320" y="4648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wo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419720" y="4648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wo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" descr="BD06662_"/>
          <p:cNvPicPr/>
          <p:nvPr/>
        </p:nvPicPr>
        <p:blipFill>
          <a:blip r:embed="rId2"/>
          <a:stretch/>
        </p:blipFill>
        <p:spPr>
          <a:xfrm>
            <a:off x="6858000" y="4648320"/>
            <a:ext cx="1793880" cy="1587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3T11:37:11Z</dcterms:created>
  <dc:creator>ASUS OEM</dc:creator>
  <dc:description/>
  <dc:language>en-US</dc:language>
  <cp:lastModifiedBy>teacher</cp:lastModifiedBy>
  <dcterms:modified xsi:type="dcterms:W3CDTF">2010-10-08T17:47:56Z</dcterms:modified>
  <cp:revision>30</cp:revision>
  <dc:subject/>
  <dc:title>PowerPoint 簡報</dc:title>
</cp:coreProperties>
</file>